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wmf" ContentType="image/x-wmf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442-6A49-43B9-B099-A6B5D58A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494-64DE-4FDF-A2A6-A88EEAC5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F81-77AC-42EF-B522-63A07828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630-AF14-42B1-8968-8A253058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9033-641A-42C9-8330-73A2D786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2046-9B6C-49B1-A1DD-139E7297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199F-7A09-45B3-BCA8-15828A67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B756-A890-4E42-9B6B-94FEE1BF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4DCB-0311-4240-A580-052B2B30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2E35-7720-4217-8B0D-B0C9E740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B233-4E10-4044-B04C-CA93CBE5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03E-2BA1-4ED4-A0F0-3C92BCB4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75CC-AF6B-44F6-9FCE-ECEDEED2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320A-0D8F-4781-81DC-5564D810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AC34-07E8-47A7-97B2-F8093AA6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73F6-68EC-4FD2-AB17-DFA711E6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BFAD-FFAE-4164-8D76-8EDD1C19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A922-0203-4ED8-820C-7EE2E721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1167-9F78-464E-8E0F-795F1F9E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F711-91CA-42FE-9CBB-52AB26B9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4B2A-CCDD-4D76-A5BD-40575426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62CC8-32C8-4FCE-B2D8-9287288B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F7A-81AD-4342-AAED-91000533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357E-B56A-4A24-A8DA-C704FDCD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DA2A-9D6A-4D23-8805-0B84A18F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38E1-6C2D-4891-96B0-BDE8DB5D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95A9-6499-42D7-B3DF-B4D81C19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4077-32ED-4E05-9444-2234BB64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3A1E-2205-4465-B43B-08D31A3B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2508-909B-4F14-9844-BE49F161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62A8-513D-4DCB-BB6F-3E3D9764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3713F-23E8-4F4B-BD58-B91E1EF9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E7A00-18EC-4053-BE5B-2B3F24AD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A10-F719-4BE2-9CDF-444FBCF3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9DC5-605C-460F-83E8-0D716588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9ACAC-CF53-4C4F-8C1B-5F7E1393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B836-8EF5-4AB9-B887-EAD098C1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03711-58A8-48E0-A02D-FCD0135E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75F5E-D027-45AF-BD14-55DA6BEC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F70AE-F345-4271-94B1-199A1156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1796-310D-437C-8AA0-E514027A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24AD-685D-42C1-B912-1500D1C4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012FF-9F41-4B8C-A14A-B2781F35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0323-E252-4F1F-BF14-9640B24C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EC1-2FDF-4210-B2D0-ED53784E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6E338-25D0-46A3-915D-90E9BAEF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BA698-E37D-4B43-99B9-250F91A8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7A537-ECAA-496F-9F54-113F7D16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84049-B1F9-445B-8BC7-EAD03F61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D2D92-3B30-4009-90CD-073654C0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1C374-DCD0-42E1-A0F5-54AC429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E70F4-219C-412B-AE83-FCBBDED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8FEAF-E729-4660-A23C-62508848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6CFB1-3BF1-4DB7-B5B8-8736F5DA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5806F-8E8D-4F3E-956C-B9C57596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E17-A1C7-4DC4-83C3-F1279753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1986D-C2E7-45B6-9986-A9BBEDBB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5148C-0A49-42D5-869A-14D43C28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0ACF-66F6-40A5-96EF-6D553F5C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D23A1-73BC-4030-ADDD-B15A8A7B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75BFD-384D-40CE-914A-2241BE2C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9F16A-E678-4D52-9318-2FCBB02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73604-F858-4515-8DB4-DB1C043A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9869D-AD23-4B76-BA85-4E858156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3C81F-1930-4A8B-AA9B-48955171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550BE-A087-46CC-9DC8-C83E7B6E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5D2-6912-40D0-A92C-6E4223C1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93A44-CE3A-4BB0-B47B-16481411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FD3FE-37AB-4A2A-9DA1-FEED28A4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8996E-FED0-4EDC-87C0-34AC2638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2D3-AD8D-4707-B9A2-D149C6BE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1ED-CE44-4B12-B470-82F2483E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7DDB-C410-4A37-ADD0-2E63EC124AF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10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86F9-F8EC-48CF-86F3-3442AB615F1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D446-70B4-4FD5-88A0-3E13B3D3473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C751-8C2B-4E54-AFC6-78C333A3C92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7F8A-B438-4618-B903-0059CAC78D8A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1277-F00A-416A-A43C-5B5500FA0E2C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56386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685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5257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5812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05120" y="1447920"/>
            <a:ext cx="6962760" cy="5048280"/>
            <a:chOff x="1905120" y="1447920"/>
            <a:chExt cx="6962760" cy="5048280"/>
          </a:xfrm>
        </p:grpSpPr>
        <p:sp>
          <p:nvSpPr>
            <p:cNvPr id="257" name=""/>
            <p:cNvSpPr txBox="1"/>
            <p:nvPr/>
          </p:nvSpPr>
          <p:spPr>
            <a:xfrm>
              <a:off x="1905120" y="1447920"/>
              <a:ext cx="632448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33cc33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食物中的营养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5486400" y="6172200"/>
              <a:ext cx="338148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73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66680" y="1371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维生素和矿物质有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调节身体机能</a:t>
            </a: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的作用，它们的种类非常多，是我们保持健康不可缺少的营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0880" y="533520"/>
            <a:ext cx="556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怎样才知道食物中含有哪些营养呢？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1371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我们可以通过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实验和查阅资料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的方法辨别食物中含有的营养成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18604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33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脂肪的辨别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用棉签蘸一点食用油，涂在白纸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分别用肥肉、花生米等在白纸上挤压、滑动。含有脂肪的食物在白纸上会留下油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629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960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淀粉的辨别方法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1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在淀粉糊中滴入一滴碘酒，会看到淀粉变成蓝色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2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分别在不同的食物上滴一滴碘酒，观察实验现象。如果发现有变蓝色的现象出现，说明这种食物中含有淀粉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213120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们的身体需要各种营养，这些营养都储存在种类丰富的食物中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丰富的食物是能够摄取各种丰富的营养的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80880"/>
            <a:ext cx="1828800" cy="7621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66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结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姚体"/>
                <a:ea typeface="方正姚体"/>
              </a:rPr>
              <a:t>考考你：填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143000"/>
            <a:ext cx="8534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人体维持健康需要蛋白质（            ）、（      ）、（        ）、矿物质、水和膳食纤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09480" y="1676520"/>
            <a:ext cx="70628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，你有哪些收获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3657600" cy="289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914400"/>
            <a:ext cx="69343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能从种类丰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的食物中获得什么营养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81480" y="3689280"/>
            <a:ext cx="396252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95280" y="21636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食物所含的营养成分非常丰富，通常分为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蛋白质、糖类、脂肪、维生素和矿物质以及水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e6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19320" y="42638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人体是由无数细胞构成的，蛋白质是其主要部分，因此构成和修补人体组织是蛋白质最主要的生理功能。人体细胞要不断地更新，所以每天都必须摄入一定量的蛋白质，作为构成和修补组织的“建筑材料”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蛋白质参与构成人体的各类重要的生命活性物质。体内蛋白质的种类数以千计，其中包括人类赖以生存的无数的酶类、多种激素、抗体等，这些酶、激素、抗体大都由蛋白质构成的。此外，蛋白质还参与调节渗透压和体内酸碱平衡以及供给能量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947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762120"/>
            <a:ext cx="4952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蛋白质是构成人体肌肉、内脏、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头发、指甲和血液的主要成分。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1752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脂肪和糖类是人体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能量的主要来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我们的身体可以储存大量的脂肪和糖类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091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63600" y="4265280"/>
            <a:ext cx="78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几乎一切天然食物中都含有脂类，脂类是一种很重要的有机化合物，是人体必不可少的组成成份之一。其主要分为动物脂肪和植物脂肪，它们由于所含化学元素的种类、数量以及结构不同，而各有各的功能、营养价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18741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糖类在人体内消化后，主要以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葡萄糖</a:t>
            </a: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的形式被吸收利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4:4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